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D22-F797-40AA-98C8-01B47EAA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301-F581-40C5-B63B-B0CFB4E0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81F-7B2E-4D74-9EB0-D30F1235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ACD-A916-4F28-80AF-14A011BB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5CA-BF63-432E-99A4-F530B593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C72-6919-4B86-A9A9-6D9C0725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BF22-D37E-4052-930E-4B3F769E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A54E-96C1-4B8E-8027-01B69DB5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D98-03F3-4085-87D4-5AD53417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014-EF8B-44D5-8F37-7A46BB4E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8B72-B704-46D6-93E6-80C67D7B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D93-28AD-4E21-9BE2-2D206674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4545-EC42-424B-BB96-4E68ACD9C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essuel.org/ccnn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48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35640" y="54936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Veamos algunos datos de la hidro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4508640"/>
            <a:ext cx="223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.E.S. Suel – Fuengi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amento de Ciencias Natural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essuel.org/ccn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Brush Script MT"/>
              </a:rPr>
              <a:t>	</a:t>
            </a:r>
            <a:r>
              <a:rPr b="0" lang="en-US" sz="5400" spc="-1" strike="noStrike">
                <a:solidFill>
                  <a:srgbClr val="ffff66"/>
                </a:solidFill>
                <a:latin typeface="Tw Cen MT Condensed Extra Bold"/>
              </a:rPr>
              <a:t>El agua de nuestro plane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64000" y="1440000"/>
            <a:ext cx="2953080" cy="221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-684360" y="671400"/>
          <a:ext cx="6048360" cy="563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84360" y="671400"/>
                    <a:ext cx="604836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627280" y="3141720"/>
            <a:ext cx="64764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3429000"/>
            <a:ext cx="50508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5364000" y="4076640"/>
            <a:ext cx="2953080" cy="197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1413000"/>
            <a:ext cx="2953080" cy="28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8360" y="2060640"/>
            <a:ext cx="2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6160" y="4292640"/>
            <a:ext cx="150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Tw Cen MT Condensed Extra Bold"/>
              </a:rPr>
              <a:t>El agua dul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0" y="404640"/>
            <a:ext cx="4392720" cy="288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324000" y="333360"/>
          <a:ext cx="8208720" cy="652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333360"/>
                    <a:ext cx="820872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348000" y="5516640"/>
            <a:ext cx="647640" cy="217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635280" y="3860280"/>
            <a:ext cx="505080" cy="505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732720" y="3645000"/>
            <a:ext cx="2170080" cy="2133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588000" y="5950080"/>
            <a:ext cx="239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ólo el 0,01% para consumo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628640"/>
            <a:ext cx="39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La mayor parte del agua dulce es hi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8360" y="357336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9% HI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24000" y="3284640"/>
            <a:ext cx="210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QUETES POLARES (HIE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626920" y="980640"/>
            <a:ext cx="289080" cy="2087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4581360"/>
            <a:ext cx="144360" cy="15116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75280" y="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írculo polar Ár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14560" y="64612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írculo polar Antár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612720" y="-96840"/>
            <a:ext cx="10656720" cy="7126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229800" y="4005360"/>
            <a:ext cx="24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189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erra firme cubierta de hielo acumulado durante miles de años de nev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95280" y="1341360"/>
            <a:ext cx="50472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060640"/>
            <a:ext cx="66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De ella se desprenden los icerberg, que son enormes bloques que van flotando a la deriva en el mar hasta que acaban fundiénd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573120" y="-243000"/>
            <a:ext cx="5264280" cy="7272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88000" y="981000"/>
            <a:ext cx="358560" cy="936720"/>
          </a:xfrm>
          <a:custGeom>
            <a:avLst/>
            <a:gdLst>
              <a:gd name="textAreaLeft" fmla="*/ 0 w 358560"/>
              <a:gd name="textAreaRight" fmla="*/ 129600 w 35856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88000" y="2205000"/>
            <a:ext cx="358560" cy="4390920"/>
          </a:xfrm>
          <a:custGeom>
            <a:avLst/>
            <a:gdLst>
              <a:gd name="textAreaLeft" fmla="*/ 0 w 358560"/>
              <a:gd name="textAreaRight" fmla="*/ 129600 w 358560"/>
              <a:gd name="textAreaTop" fmla="*/ 114480 h 4390920"/>
              <a:gd name="textAreaBottom" fmla="*/ 4276440 h 43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981000"/>
            <a:ext cx="327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Tw Cen MT Condensed Extra Bold"/>
              </a:rPr>
              <a:t>Parte que emer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3284640"/>
            <a:ext cx="37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Tw Cen MT Condensed Extra Bold"/>
              </a:rPr>
              <a:t>Parte sumergida del iceber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-531720"/>
            <a:ext cx="360360" cy="864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7800" y="333360"/>
            <a:ext cx="24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2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940360" y="260280"/>
            <a:ext cx="295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 choque con un iceberg provocó el hundimiento del Tit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20:59:39Z</dcterms:created>
  <dc:creator>euyin</dc:creator>
  <dc:description/>
  <dc:language>en-US</dc:language>
  <cp:lastModifiedBy>Eugenio</cp:lastModifiedBy>
  <dcterms:modified xsi:type="dcterms:W3CDTF">2010-02-12T20:35:24Z</dcterms:modified>
  <cp:revision>411</cp:revision>
  <dc:subject/>
  <dc:title>Diapositiva 1</dc:title>
</cp:coreProperties>
</file>